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ADE7-74BB-49B1-8997-0F176ED59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F514-97F1-4BA8-994E-D43B8D80B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07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392E-1D04-4480-A365-D6CC0C116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60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37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60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37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4EC3-B408-4268-932E-701CF81B7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70FA-DFC0-47C1-BA36-23BAA6D77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AA5E-CD2D-477F-9118-CC4DD6A9EF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8561-C770-4AF8-9730-A904EA0B84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BBB7-ADEF-457C-B26A-04459B22CE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F591-611A-4CC4-87E4-9E78D9C589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9939-AF2F-40EF-8AF8-88E2F05A6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5763-92C6-49E6-9112-00F83124F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239F-649C-42B2-84A8-24D9FED55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07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B688-0040-4D3B-837C-2B0116ABB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73E2-4D3E-4185-AD24-A989B39695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4142-2CD4-477B-A372-D1795B1B5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07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BC8F-A381-4F5F-9A2B-AD385FF42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0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37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0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37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8979-1D3B-4FFA-98DC-D5EC5DC1E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ADCA-E91C-4465-B5F4-07C01724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EA76-FE27-40B9-A9C2-25BA8EABF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CD3D-F4A2-4359-875D-1740485C8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4644-069E-4891-94AB-2974F5C6C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6771-52CB-481E-9FCF-B7C274474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07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BBB8-6139-4503-A3BE-AD3E92C9E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451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660C-6D76-4C46-AC3A-074B53008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02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918B-640D-45F1-9343-B64CD7F5BD43}" type="slidenum">
              <a:rPr b="0" lang="fr-F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457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imes New Roman"/>
              </a:rPr>
              <a:t>Lakeford Consultants Limite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7802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DE44-21AA-457B-94E6-98548C3A0DEA}" type="slidenum">
              <a:rPr b="0" lang="fr-F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380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Times New Roman"/>
              </a:rPr>
              <a:t>Lakeford Consultants Limite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83800" y="121932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54360" y="35877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56040" y="2800440"/>
            <a:ext cx="53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840" y="114300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4560" y="2057400"/>
            <a:ext cx="451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Un outil spécifiquement dédié</a:t>
            </a:r>
            <a:br>
              <a:rPr sz="1600"/>
            </a:b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à la conception FH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6520" y="3124080"/>
            <a:ext cx="703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Gestion des liaisons à travers une base de données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Définition très précise des équipements issus d’une base intégrée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Étude des profils de liaison avec l’utilisation de MNT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Calcul des liaisons selon les recommandations de l’ITU-R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Calcul des interférences et intégration aux bilans de liaison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Fonctions d’analyse et d’aide à la décision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Génération de rapports détaillés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Nombreux exports personnalisés ..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657D-598A-4A31-8B43-D6554798A1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83400" y="1752480"/>
            <a:ext cx="68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V - Bilan de liaison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960" y="2819520"/>
            <a:ext cx="3551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Visualisation immédiate du respect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es critères d’indisponibilité et de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qualité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Bilan bi-directionnel incluant le recul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e seuil dû aux interférences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Bilans pour TEB à 10</a:t>
            </a:r>
            <a:r>
              <a:rPr b="0" lang="fr-FR" sz="1600" spc="-1" strike="noStrike" baseline="30000">
                <a:solidFill>
                  <a:srgbClr val="336699"/>
                </a:solidFill>
                <a:latin typeface="Arial"/>
              </a:rPr>
              <a:t>-3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et 10</a:t>
            </a:r>
            <a:r>
              <a:rPr b="0" lang="fr-FR" sz="1600" spc="-1" strike="noStrike" baseline="30000">
                <a:solidFill>
                  <a:srgbClr val="336699"/>
                </a:solidFill>
                <a:latin typeface="Arial"/>
              </a:rPr>
              <a:t>-6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Export du bilan vers Excel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permettant des rapport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personnalisé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64" name="Pegasus%20config%20bilan" descr=""/>
          <p:cNvPicPr/>
          <p:nvPr/>
        </p:nvPicPr>
        <p:blipFill>
          <a:blip r:embed="rId1"/>
          <a:stretch/>
        </p:blipFill>
        <p:spPr>
          <a:xfrm>
            <a:off x="3886200" y="2400480"/>
            <a:ext cx="4898880" cy="367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422E-3B5C-4892-8151-6B165074B4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040" y="1752480"/>
            <a:ext cx="80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V - Calcul des interférenc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040" y="2514600"/>
            <a:ext cx="3323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iltrage avancé des ca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d’interférence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Prise en compte du relief dans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les bilans d’interférence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Prise en compte des corrélation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e trajets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Nombreux filtres de définition de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hypothèses de calcul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Rapport de synthèse et rapport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détaillé des cas d ’interférence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69" name="Pegasus%20config%20interférence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5051520" cy="37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3DEC-F4F3-4F5F-BAFC-B2AFA7B0D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6880" y="175248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VI - Représentation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600" y="3429000"/>
            <a:ext cx="3674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Affichage des caractéristiques de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bonds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nctions de zoom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Représentation des interférences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Affichage des canaux et polarisation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(aide à la planification de fréquence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74" name="Pegasus%20config%20map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E244-7FEB-4B48-A685-DA9AD40B1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55000" y="1219320"/>
            <a:ext cx="56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: SERVIC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514600"/>
            <a:ext cx="1143000" cy="1066680"/>
          </a:xfrm>
          <a:prstGeom prst="flowChartMagneticDisk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2514600"/>
            <a:ext cx="1143000" cy="1066680"/>
          </a:xfrm>
          <a:prstGeom prst="flowChartMagneticDisk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880" y="2819520"/>
            <a:ext cx="88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ase de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onnées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opérateur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743200"/>
            <a:ext cx="1676160" cy="762120"/>
          </a:xfrm>
          <a:prstGeom prst="flowChartPreparation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124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3124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7280" y="2894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6080" y="2819520"/>
            <a:ext cx="92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ase de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onnées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9040" y="1143000"/>
            <a:ext cx="56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: SERVIC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2600" y="4191120"/>
            <a:ext cx="6500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Analyse des besoins client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onseil pour l’interfaçage entre Pegasus et les référentiels client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(intégration des BD clients existantes)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rmation théorique aux calculs des liaisons et à la planification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de fréquence (calculs d ’interférence, recherche du meilleur canal …)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rmation pratique sur PEGASU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Intégration de l ’outil dans l ’organisation client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9760" y="17524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Intégration de l’outi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581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C075-A2FA-4E84-89F2-73B8465F2D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5720" y="121932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RINCIPES DE PEGASU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514600"/>
            <a:ext cx="1143000" cy="1066680"/>
          </a:xfrm>
          <a:prstGeom prst="flowChartMagneticDisk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819520"/>
            <a:ext cx="88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ase de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onnées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opérateur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09680" y="2743200"/>
            <a:ext cx="3810240" cy="762120"/>
            <a:chOff x="2209680" y="2743200"/>
            <a:chExt cx="3810240" cy="762120"/>
          </a:xfrm>
        </p:grpSpPr>
        <p:sp>
          <p:nvSpPr>
            <p:cNvPr id="90" name=""/>
            <p:cNvSpPr/>
            <p:nvPr/>
          </p:nvSpPr>
          <p:spPr>
            <a:xfrm>
              <a:off x="2209680" y="3124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3124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276720" y="2743200"/>
              <a:ext cx="1676160" cy="762120"/>
              <a:chOff x="3276720" y="2743200"/>
              <a:chExt cx="1676160" cy="762120"/>
            </a:xfrm>
          </p:grpSpPr>
          <p:sp>
            <p:nvSpPr>
              <p:cNvPr id="93" name=""/>
              <p:cNvSpPr/>
              <p:nvPr/>
            </p:nvSpPr>
            <p:spPr>
              <a:xfrm>
                <a:off x="3276720" y="2743200"/>
                <a:ext cx="1676160" cy="762120"/>
              </a:xfrm>
              <a:prstGeom prst="flowChartPreparation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30080" y="289404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6699"/>
                    </a:solidFill>
                    <a:latin typeface="Arial"/>
                  </a:rPr>
                  <a:t>Interface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6095880" y="2514600"/>
            <a:ext cx="1143000" cy="1066680"/>
            <a:chOff x="6095880" y="2514600"/>
            <a:chExt cx="1143000" cy="1066680"/>
          </a:xfrm>
        </p:grpSpPr>
        <p:sp>
          <p:nvSpPr>
            <p:cNvPr id="96" name=""/>
            <p:cNvSpPr/>
            <p:nvPr/>
          </p:nvSpPr>
          <p:spPr>
            <a:xfrm>
              <a:off x="6095880" y="2514600"/>
              <a:ext cx="1143000" cy="1066680"/>
            </a:xfrm>
            <a:prstGeom prst="flowChartMagneticDisk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8880" y="2743200"/>
              <a:ext cx="927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ase de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onnées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iaisons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EGASUS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467480" y="2514600"/>
            <a:ext cx="1216800" cy="1066680"/>
            <a:chOff x="7467480" y="2514600"/>
            <a:chExt cx="1216800" cy="1066680"/>
          </a:xfrm>
        </p:grpSpPr>
        <p:sp>
          <p:nvSpPr>
            <p:cNvPr id="99" name=""/>
            <p:cNvSpPr/>
            <p:nvPr/>
          </p:nvSpPr>
          <p:spPr>
            <a:xfrm>
              <a:off x="7467480" y="2514600"/>
              <a:ext cx="1143000" cy="1066680"/>
            </a:xfrm>
            <a:prstGeom prst="flowChartMagneticDisk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4880" y="2743200"/>
              <a:ext cx="1139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ase de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onnées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Équipements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EGASUS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679400" y="114300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RINCIPES DE PEGASU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9200" y="4114800"/>
            <a:ext cx="4363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Une base de données liaison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Une base de données équipement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Un module </a:t>
            </a: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PEGASUS EDITOR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de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gestion des systèmes d’équipement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Un module </a:t>
            </a: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PEGASUS CONFIGURATOR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de conception FH.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nctions export/import vers Excel et Access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391520" y="3657600"/>
            <a:ext cx="1600200" cy="2349000"/>
            <a:chOff x="7391520" y="3657600"/>
            <a:chExt cx="1600200" cy="2349000"/>
          </a:xfrm>
        </p:grpSpPr>
        <p:grpSp>
          <p:nvGrpSpPr>
            <p:cNvPr id="104" name=""/>
            <p:cNvGrpSpPr/>
            <p:nvPr/>
          </p:nvGrpSpPr>
          <p:grpSpPr>
            <a:xfrm>
              <a:off x="7391520" y="3657600"/>
              <a:ext cx="1600200" cy="1811160"/>
              <a:chOff x="7391520" y="3657600"/>
              <a:chExt cx="1600200" cy="1811160"/>
            </a:xfrm>
          </p:grpSpPr>
          <p:sp>
            <p:nvSpPr>
              <p:cNvPr id="105" name=""/>
              <p:cNvSpPr/>
              <p:nvPr/>
            </p:nvSpPr>
            <p:spPr>
              <a:xfrm>
                <a:off x="8001000" y="36576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pic>
            <p:nvPicPr>
              <p:cNvPr id="106" name="Pegasus%20editor%20ecran1" descr=""/>
              <p:cNvPicPr/>
              <p:nvPr/>
            </p:nvPicPr>
            <p:blipFill>
              <a:blip r:embed="rId1"/>
              <a:stretch/>
            </p:blipFill>
            <p:spPr>
              <a:xfrm>
                <a:off x="7391520" y="4267080"/>
                <a:ext cx="1600200" cy="12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7698600" y="548640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80"/>
                  </a:solidFill>
                  <a:latin typeface="Arial"/>
                </a:rPr>
                <a:t>PEGASUS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80"/>
                  </a:solidFill>
                  <a:latin typeface="Arial"/>
                </a:rPr>
                <a:t>EDITOR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715000" y="3581280"/>
            <a:ext cx="1905120" cy="2425320"/>
            <a:chOff x="5715000" y="3581280"/>
            <a:chExt cx="1905120" cy="2425320"/>
          </a:xfrm>
        </p:grpSpPr>
        <p:grpSp>
          <p:nvGrpSpPr>
            <p:cNvPr id="109" name=""/>
            <p:cNvGrpSpPr/>
            <p:nvPr/>
          </p:nvGrpSpPr>
          <p:grpSpPr>
            <a:xfrm>
              <a:off x="5715000" y="3581280"/>
              <a:ext cx="1905120" cy="1893960"/>
              <a:chOff x="5715000" y="3581280"/>
              <a:chExt cx="1905120" cy="189396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6781680" y="3581280"/>
                <a:ext cx="83844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629400" y="36576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pic>
            <p:nvPicPr>
              <p:cNvPr id="112" name="Pegasus%20config%20ecran1" descr=""/>
              <p:cNvPicPr/>
              <p:nvPr/>
            </p:nvPicPr>
            <p:blipFill>
              <a:blip r:embed="rId2"/>
              <a:stretch/>
            </p:blipFill>
            <p:spPr>
              <a:xfrm>
                <a:off x="5715000" y="4267080"/>
                <a:ext cx="1606680" cy="1208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"/>
            <p:cNvSpPr/>
            <p:nvPr/>
          </p:nvSpPr>
          <p:spPr>
            <a:xfrm>
              <a:off x="5810400" y="5486400"/>
              <a:ext cx="16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80"/>
                  </a:solidFill>
                  <a:latin typeface="Arial"/>
                </a:rPr>
                <a:t>PEGASUS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80"/>
                  </a:solidFill>
                  <a:latin typeface="Arial"/>
                </a:rPr>
                <a:t>CONFIGURATOR</a:t>
              </a:r>
              <a:endParaRPr b="0" lang="en-US" sz="1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CF11-E48E-4316-A6D3-3349135ACC73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65560" y="1143000"/>
            <a:ext cx="47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EDI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9240" y="1066680"/>
            <a:ext cx="47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EDI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7524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gestion des systèmes d’équipement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75000" y="2666880"/>
            <a:ext cx="34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Système X (exemple ALCATEL 9418 UX)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5520" y="36878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Antennes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6960" y="368784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Feeder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7400" y="358128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fréquences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480" y="3581280"/>
            <a:ext cx="133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Configurations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Équipement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276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4267080"/>
            <a:ext cx="3676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80"/>
                </a:solidFill>
                <a:latin typeface="Arial"/>
              </a:rPr>
              <a:t>Paramètres équipement évolués dont</a:t>
            </a:r>
            <a:r>
              <a:rPr b="1" lang="fr-FR" sz="1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Seuils @ 10</a:t>
            </a:r>
            <a:r>
              <a:rPr b="0" lang="fr-FR" sz="1400" spc="-1" strike="noStrike" baseline="30000">
                <a:solidFill>
                  <a:srgbClr val="336699"/>
                </a:solidFill>
                <a:latin typeface="Arial"/>
              </a:rPr>
              <a:t>-3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et 10</a:t>
            </a:r>
            <a:r>
              <a:rPr b="0" lang="fr-FR" sz="1400" spc="-1" strike="noStrike" baseline="30000">
                <a:solidFill>
                  <a:srgbClr val="336699"/>
                </a:solidFill>
                <a:latin typeface="Arial"/>
              </a:rPr>
              <a:t>-6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Signature (paramètre Kn)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Système XPIC (XPIF)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Tables IRF pour chaque équipement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Configuration jusqu’à 8+0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Egaliseur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autres …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9" name="Pegasus%20editor%20ecran1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19720" cy="331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C59D-2A90-482D-BB27-76488DDBB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81720" y="175248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 - Gestion des liaison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352680"/>
            <a:ext cx="3886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Gestion Arborescente des liaisons   </a:t>
            </a:r>
            <a:r>
              <a:rPr b="0" lang="fr-FR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	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alcul de la qualité et de</a:t>
            </a:r>
            <a:br>
              <a:rPr sz="1600"/>
            </a:b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   l’indisponibilité de bout en bout.</a:t>
            </a:r>
            <a:br>
              <a:rPr sz="1600"/>
            </a:b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Base de donnée projet organisée en Réseaux </a:t>
            </a:r>
            <a:r>
              <a:rPr b="0" lang="fr-FR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Possibilité d’effectuer les calculs </a:t>
            </a:r>
            <a:br>
              <a:rPr sz="1600"/>
            </a:b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   sur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une partie des bonds </a:t>
            </a: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(par sélection des réseaux à tester)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4" name="Pegasus%20config%20goto" descr=""/>
          <p:cNvPicPr/>
          <p:nvPr/>
        </p:nvPicPr>
        <p:blipFill>
          <a:blip r:embed="rId1"/>
          <a:stretch/>
        </p:blipFill>
        <p:spPr>
          <a:xfrm>
            <a:off x="4191120" y="2565360"/>
            <a:ext cx="459576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2E67-5D5B-47AF-BA48-EC65678C9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75248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I - Caractérisation du bon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90920"/>
            <a:ext cx="3713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hoix de l’équipement, capacité, configuration, antennes, feeders..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Import ou saisie des sites terminaux Master et Slave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Plus de 150 systèmes géodésique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reconnu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Saisie des objectifs d’indisponibilité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hoix de la méthode de calcul des effets du fading (ITU-R 338, 530-4 … 530-9)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Import automatique des paramètres géoclimatiques et pluie à partir des fichiers de données de l ’ITU-R ..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9" name="Pegasus%20config%20ecran1" descr=""/>
          <p:cNvPicPr/>
          <p:nvPr/>
        </p:nvPicPr>
        <p:blipFill>
          <a:blip r:embed="rId1"/>
          <a:stretch/>
        </p:blipFill>
        <p:spPr>
          <a:xfrm>
            <a:off x="3733920" y="2249640"/>
            <a:ext cx="5110200" cy="384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6EC5-0D48-4A20-BD40-6411C03B2A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75248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I - Caractérisation du bon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590920"/>
            <a:ext cx="3713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Définition précise de toute la chaîne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Tx/Rx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onfigurations multi-canaux jusqu’à         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8+0, 7+1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Définition des liaisons en diversité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d’espace et/ou de fréquence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Saisie du taux de pluie pour chaque   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bond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44" name="Pegasus%20config%20more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064120" cy="37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CC84-AB6F-4172-BACF-DA2FC170E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78920" y="175248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II - Analyse de la L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1520" y="2438280"/>
            <a:ext cx="381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Intégration de MNT venant de divers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formats natifs: PlaNet, geo, alt …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Représentation du projet sur fond de la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carte calculée du MNT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Étude dynamique du profil et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intégration du bond au projet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Étude de couverture à partir d ’une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station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Import d ’une BD station externe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(sous Excel)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nctions de recherche de nodaux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nction de zoom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Export des images obtenues au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format BMP ..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49" name="Pegasus%20config%20mnt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AC7D-3C9F-47F0-B21C-2D2DB75E6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8920" y="175248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II - Analyse de la L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240" y="2514600"/>
            <a:ext cx="367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Objet « profil » lié à la base de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onnée liaison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Lecture du MNT pour l’intégration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u profil et du sursol aux liaisons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Modification manuelle du sursol et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es altitude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Définition des deux critères de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égagement (</a:t>
            </a:r>
            <a:r>
              <a:rPr b="0" lang="fr-FR" sz="1400" spc="-1" strike="noStrike">
                <a:solidFill>
                  <a:srgbClr val="336699"/>
                </a:solidFill>
                <a:latin typeface="Arial"/>
              </a:rPr>
              <a:t>Méthodes I et II de l ’ITU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)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Fonction d’export vers Excel et 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PathLoss (.PL3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4" name="Pegasus%20config%20profil1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888080" cy="36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409D-5DFE-49DE-933D-D670D0612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01400" y="114300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dddddd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5080" y="106668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Arial"/>
              </a:rPr>
              <a:t>PEGASUS CONFIGURATOR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175248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99"/>
                </a:solidFill>
                <a:latin typeface="Arial"/>
              </a:rPr>
              <a:t>Module de conception FH: III - Analyse de la L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514600"/>
            <a:ext cx="3438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Visualisation du dégagement de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la zone de Fresnel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alcul des éventuelles diffractions.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Calcul des éventuelles réflexion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Quatre modes de représentation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  différents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Zoom horizontal pour examen</a:t>
            </a:r>
            <a:br>
              <a:rPr sz="1600"/>
            </a:b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détaillé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3681-40DA-4CA8-A5FD-71B41192C6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0:03:56Z</dcterms:created>
  <dc:creator>GENETEL</dc:creator>
  <dc:description/>
  <dc:language>en-US</dc:language>
  <cp:lastModifiedBy>NEC Computers International</cp:lastModifiedBy>
  <cp:lastPrinted>2000-12-21T17:06:57Z</cp:lastPrinted>
  <dcterms:modified xsi:type="dcterms:W3CDTF">2004-11-18T14:16:24Z</dcterms:modified>
  <cp:revision>83</cp:revision>
  <dc:subject/>
  <dc:title>GEnération New TElecom GENE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genetel\société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